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E32-B8A6-43E5-B3B5-8DB9A29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22D-1580-4D55-B5E3-F6F719CE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77C-6F59-40F5-9061-E36B6F7A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202-3D9E-4DB7-90EB-68A4249E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8D1-E5EC-4AB1-A197-B303AAB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21B-21CE-42FF-AD55-C5C77120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4A9-CF1C-4ADB-A4A2-260E52E7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17E-626E-4A60-AB77-90B9E73F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13B-D9E6-4AB7-8B5F-0D1020F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DAB-4757-477C-B949-00B76CE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775-67AD-4D08-BC74-55F5042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EE9-877C-498A-951D-BAE3501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C1BD-AB67-49CE-9F1A-E656A642B20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F38-927E-4EF2-B1BD-F4AE7D3466F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800360" y="2691720"/>
            <a:ext cx="5797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见的酸和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时 酸的化学性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单元 酸和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92040" y="1616040"/>
            <a:ext cx="54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用化学方法清除铁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31920" y="701640"/>
            <a:ext cx="59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探究活动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稀酸与金属氧化物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71520" y="2964600"/>
            <a:ext cx="453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温馨提示：应当实事求是的汇报实验现象，即是实验失败，也可以从失败的实验中得到教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884160" y="5278680"/>
            <a:ext cx="76024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结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当酸不足或适量时，铁锈与酸反应；当酸过量时，与铁锈反应剩余的酸就会继续与铁反应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C:\Users\Administrator\Desktop\门生锈了-47232726.jpg门生锈了-47232726"/>
          <p:cNvPicPr/>
          <p:nvPr/>
        </p:nvPicPr>
        <p:blipFill>
          <a:blip r:embed="rId1"/>
          <a:stretch/>
        </p:blipFill>
        <p:spPr>
          <a:xfrm>
            <a:off x="4968720" y="1463760"/>
            <a:ext cx="3767400" cy="25621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>
            <a:off x="620640" y="4135320"/>
            <a:ext cx="7848720" cy="115272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从实验、观察、汇报及大家讨论中，你得到什么启示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906640" y="6541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稀酸与金属氧化物的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2720" y="1357200"/>
          <a:ext cx="7993080" cy="3754440"/>
        </p:xfrm>
        <a:graphic>
          <a:graphicData uri="http://schemas.openxmlformats.org/drawingml/2006/table">
            <a:tbl>
              <a:tblPr/>
              <a:tblGrid>
                <a:gridCol w="1152360"/>
                <a:gridCol w="2664000"/>
                <a:gridCol w="4176720"/>
              </a:tblGrid>
              <a:tr h="66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化学方程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54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铁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铁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稀硫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22"/>
          <p:cNvSpPr/>
          <p:nvPr/>
        </p:nvSpPr>
        <p:spPr>
          <a:xfrm>
            <a:off x="4721400" y="2583000"/>
            <a:ext cx="3706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6HCl=2Fe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1933560" y="2295360"/>
            <a:ext cx="23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铁钉表面的铁锈被除去，溶液变为黄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1976400" y="3824280"/>
            <a:ext cx="23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铁钉表面的铁锈被除去，溶液变为黄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4538520" y="4119480"/>
            <a:ext cx="4321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F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3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863640" y="5533920"/>
            <a:ext cx="646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： 酸能与金属氧化物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49440" y="5345280"/>
            <a:ext cx="8065800" cy="55116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酸清除铁锈时，能否将金属制品长时间浸泡在酸中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61920" y="1380960"/>
            <a:ext cx="669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盐酸和硫酸为什么有这些相似的化学性质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01760" y="7300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交流讨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2296"/>
          <p:cNvGrpSpPr/>
          <p:nvPr/>
        </p:nvGrpSpPr>
        <p:grpSpPr>
          <a:xfrm>
            <a:off x="1189080" y="2060640"/>
            <a:ext cx="7056360" cy="4076640"/>
            <a:chOff x="1189080" y="2060640"/>
            <a:chExt cx="7056360" cy="4076640"/>
          </a:xfrm>
        </p:grpSpPr>
        <p:pic>
          <p:nvPicPr>
            <p:cNvPr id="154" name="Picture 10" descr="酸电离"/>
            <p:cNvPicPr/>
            <p:nvPr/>
          </p:nvPicPr>
          <p:blipFill>
            <a:blip r:embed="rId1"/>
            <a:stretch/>
          </p:blipFill>
          <p:spPr>
            <a:xfrm>
              <a:off x="1189080" y="2060640"/>
              <a:ext cx="705636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3"/>
            <p:cNvSpPr/>
            <p:nvPr/>
          </p:nvSpPr>
          <p:spPr>
            <a:xfrm>
              <a:off x="1333440" y="3141000"/>
              <a:ext cx="2305080" cy="520560"/>
            </a:xfrm>
            <a:prstGeom prst="rect">
              <a:avLst/>
            </a:prstGeom>
            <a:solidFill>
              <a:srgbClr val="396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Cl=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Cl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919040" y="3327120"/>
              <a:ext cx="3182040" cy="579600"/>
            </a:xfrm>
            <a:prstGeom prst="rect">
              <a:avLst/>
            </a:prstGeom>
            <a:solidFill>
              <a:srgbClr val="396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2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+ S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酸工业应用"/>
          <p:cNvPicPr/>
          <p:nvPr/>
        </p:nvPicPr>
        <p:blipFill>
          <a:blip r:embed="rId1"/>
          <a:stretch/>
        </p:blipFill>
        <p:spPr>
          <a:xfrm>
            <a:off x="2629080" y="2133720"/>
            <a:ext cx="5688000" cy="4170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365120" y="1844640"/>
            <a:ext cx="68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酸的性质做些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486160" y="13413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证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14872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766944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01DH"/>
          <p:cNvPicPr/>
          <p:nvPr/>
        </p:nvPicPr>
        <p:blipFill>
          <a:blip r:embed="rId2"/>
          <a:stretch/>
        </p:blipFill>
        <p:spPr>
          <a:xfrm>
            <a:off x="3494160" y="1413000"/>
            <a:ext cx="1447560" cy="38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01DH"/>
          <p:cNvPicPr/>
          <p:nvPr/>
        </p:nvPicPr>
        <p:blipFill>
          <a:blip r:embed="rId3"/>
          <a:stretch/>
        </p:blipFill>
        <p:spPr>
          <a:xfrm>
            <a:off x="5942160" y="1413000"/>
            <a:ext cx="1447560" cy="385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736560" y="7254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88880" y="9748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归纳出稀盐酸和稀硫酸有哪些相似的化学性质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411280" y="485856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稀硫酸、盐酸都能与金属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应，并生成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089080" y="2278080"/>
            <a:ext cx="360360" cy="30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411280" y="220500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稀硫酸、稀盐酸都能与指示剂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411280" y="3213000"/>
            <a:ext cx="58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稀硫酸、稀盐酸都能与活动性较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金属发生置换反应，放出氢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152360" y="234936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酸的化学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95360" y="658800"/>
            <a:ext cx="7977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不借用试剂的前提下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你可以使紫色的石蕊变成红色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4636800" y="2398320"/>
            <a:ext cx="264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紫色石蕊试液为什么变色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3276720" y="3011760"/>
            <a:ext cx="5290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除了碳酸，还有其他物质能使紫色石蕊试液变红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M[G0_XYBBFD4(G)WAX5)T1K"/>
          <p:cNvPicPr/>
          <p:nvPr/>
        </p:nvPicPr>
        <p:blipFill>
          <a:blip r:embed="rId1"/>
          <a:stretch/>
        </p:blipFill>
        <p:spPr>
          <a:xfrm>
            <a:off x="979560" y="2544840"/>
            <a:ext cx="1307880" cy="3241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6"/>
          <p:cNvSpPr/>
          <p:nvPr/>
        </p:nvSpPr>
        <p:spPr>
          <a:xfrm>
            <a:off x="2727360" y="5318280"/>
            <a:ext cx="1940040" cy="474480"/>
          </a:xfrm>
          <a:prstGeom prst="borderCallout1">
            <a:avLst>
              <a:gd name="adj1" fmla="val 18750"/>
              <a:gd name="adj2" fmla="val -8333"/>
              <a:gd name="adj3" fmla="val 35782"/>
              <a:gd name="adj4" fmla="val -74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石蕊试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3"/>
          <p:cNvSpPr/>
          <p:nvPr/>
        </p:nvSpPr>
        <p:spPr>
          <a:xfrm>
            <a:off x="806400" y="1946160"/>
            <a:ext cx="76802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稀盐酸和稀硫酸能使指示剂变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金属与稀盐酸、稀硫酸反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稀酸与金属氧化物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3778200" y="1152360"/>
            <a:ext cx="1960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814920" y="656640"/>
            <a:ext cx="151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实验探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6147"/>
          <p:cNvGrpSpPr/>
          <p:nvPr/>
        </p:nvGrpSpPr>
        <p:grpSpPr>
          <a:xfrm>
            <a:off x="258840" y="344520"/>
            <a:ext cx="2445480" cy="807840"/>
            <a:chOff x="258840" y="344520"/>
            <a:chExt cx="2445480" cy="807840"/>
          </a:xfrm>
        </p:grpSpPr>
        <p:sp>
          <p:nvSpPr>
            <p:cNvPr id="79" name="矩形 7"/>
            <p:cNvSpPr/>
            <p:nvPr/>
          </p:nvSpPr>
          <p:spPr>
            <a:xfrm>
              <a:off x="818280" y="344520"/>
              <a:ext cx="167184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16"/>
            <p:cNvSpPr/>
            <p:nvPr/>
          </p:nvSpPr>
          <p:spPr>
            <a:xfrm>
              <a:off x="258840" y="6328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7"/>
            <p:cNvSpPr/>
            <p:nvPr/>
          </p:nvSpPr>
          <p:spPr>
            <a:xfrm>
              <a:off x="620640" y="5821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6151"/>
            <p:cNvSpPr/>
            <p:nvPr/>
          </p:nvSpPr>
          <p:spPr>
            <a:xfrm>
              <a:off x="1243440" y="6188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酸的化学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6152"/>
            <p:cNvSpPr/>
            <p:nvPr/>
          </p:nvSpPr>
          <p:spPr>
            <a:xfrm>
              <a:off x="258840" y="6318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酸的化学性质" descr=""/>
          <p:cNvPicPr/>
          <p:nvPr/>
        </p:nvPicPr>
        <p:blipFill>
          <a:blip r:embed="rId1"/>
          <a:stretch/>
        </p:blipFill>
        <p:spPr>
          <a:xfrm>
            <a:off x="927000" y="1258920"/>
            <a:ext cx="7216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52360" y="1200240"/>
            <a:ext cx="820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探究活动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稀盐酸和稀硫酸能使指示剂变色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76440" y="5359680"/>
            <a:ext cx="394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些酸中的什么成分使紫色石蕊试液变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ic_21882"/>
          <p:cNvPicPr/>
          <p:nvPr/>
        </p:nvPicPr>
        <p:blipFill>
          <a:blip r:embed="rId1"/>
          <a:stretch/>
        </p:blipFill>
        <p:spPr>
          <a:xfrm>
            <a:off x="5484960" y="1914480"/>
            <a:ext cx="3492360" cy="28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84040" y="1987560"/>
          <a:ext cx="5113440" cy="2663640"/>
        </p:xfrm>
        <a:graphic>
          <a:graphicData uri="http://schemas.openxmlformats.org/drawingml/2006/table">
            <a:tbl>
              <a:tblPr/>
              <a:tblGrid>
                <a:gridCol w="1278000"/>
                <a:gridCol w="1627200"/>
                <a:gridCol w="2208240"/>
              </a:tblGrid>
              <a:tr h="100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紫色石蕊试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色酚酞试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稀盐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稀硫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26"/>
          <p:cNvSpPr/>
          <p:nvPr/>
        </p:nvSpPr>
        <p:spPr>
          <a:xfrm>
            <a:off x="1984320" y="3214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984320" y="3960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3219480" y="31892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色（无色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3213000" y="4013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色（无色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14440" y="892440"/>
            <a:ext cx="7877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现有两瓶未贴标签的稀盐酸和氯化钠溶液，如何区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23800" y="2666520"/>
            <a:ext cx="81374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小结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中有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l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aCl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溶液不能使石蕊溶液变红，那么也不是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l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作用；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应该是酸中的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H</a:t>
            </a:r>
            <a:r>
              <a:rPr b="0" lang="en-US" sz="26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使石蕊溶液变红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892160" y="1941120"/>
            <a:ext cx="524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温馨提示：氯化钠溶液呈中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6200" y="5267160"/>
            <a:ext cx="7869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你能否将这种方法推广一下，区别稀硫酸和硫酸钠溶液，为什么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2"/>
          <p:cNvSpPr/>
          <p:nvPr/>
        </p:nvSpPr>
        <p:spPr>
          <a:xfrm>
            <a:off x="3489480" y="5300640"/>
            <a:ext cx="576000" cy="576360"/>
          </a:xfrm>
          <a:prstGeom prst="upArrow">
            <a:avLst>
              <a:gd name="adj1" fmla="val 50000"/>
              <a:gd name="adj2" fmla="val 25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2962800" y="744480"/>
            <a:ext cx="164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探究活动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金属与稀盐酸、稀硫酸的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446040" y="1527840"/>
            <a:ext cx="803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演：用肢体语言表达铜、铁、锌、镁在稀盐酸中的表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3"/>
          <p:cNvGrpSpPr/>
          <p:nvPr/>
        </p:nvGrpSpPr>
        <p:grpSpPr>
          <a:xfrm>
            <a:off x="971640" y="2060640"/>
            <a:ext cx="7981560" cy="4316040"/>
            <a:chOff x="971640" y="2060640"/>
            <a:chExt cx="7981560" cy="4316040"/>
          </a:xfrm>
        </p:grpSpPr>
        <p:grpSp>
          <p:nvGrpSpPr>
            <p:cNvPr id="104" name="Group 80"/>
            <p:cNvGrpSpPr/>
            <p:nvPr/>
          </p:nvGrpSpPr>
          <p:grpSpPr>
            <a:xfrm>
              <a:off x="1444680" y="2856240"/>
              <a:ext cx="6840720" cy="3477240"/>
              <a:chOff x="1444680" y="2856240"/>
              <a:chExt cx="6840720" cy="3477240"/>
            </a:xfrm>
          </p:grpSpPr>
          <p:grpSp>
            <p:nvGrpSpPr>
              <p:cNvPr id="105" name="Group 81"/>
              <p:cNvGrpSpPr/>
              <p:nvPr/>
            </p:nvGrpSpPr>
            <p:grpSpPr>
              <a:xfrm>
                <a:off x="1444680" y="2856240"/>
                <a:ext cx="6840720" cy="3477240"/>
                <a:chOff x="1444680" y="2856240"/>
                <a:chExt cx="6840720" cy="3477240"/>
              </a:xfrm>
            </p:grpSpPr>
            <p:pic>
              <p:nvPicPr>
                <p:cNvPr id="106" name="Picture 82" descr="msotw9_temp0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44680" y="2856240"/>
                  <a:ext cx="6529680" cy="333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Rectangle 83"/>
                <p:cNvSpPr/>
                <p:nvPr/>
              </p:nvSpPr>
              <p:spPr>
                <a:xfrm>
                  <a:off x="1444680" y="5385240"/>
                  <a:ext cx="6840720" cy="948240"/>
                </a:xfrm>
                <a:prstGeom prst="rect">
                  <a:avLst/>
                </a:prstGeom>
                <a:solidFill>
                  <a:srgbClr val="5b9b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84"/>
              <p:cNvSpPr/>
              <p:nvPr/>
            </p:nvSpPr>
            <p:spPr>
              <a:xfrm>
                <a:off x="4458960" y="3424680"/>
                <a:ext cx="958320" cy="45972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盐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85"/>
            <p:cNvGrpSpPr/>
            <p:nvPr/>
          </p:nvGrpSpPr>
          <p:grpSpPr>
            <a:xfrm>
              <a:off x="971640" y="2981520"/>
              <a:ext cx="1640520" cy="1361160"/>
              <a:chOff x="971640" y="2981520"/>
              <a:chExt cx="1640520" cy="1361160"/>
            </a:xfrm>
          </p:grpSpPr>
          <p:sp>
            <p:nvSpPr>
              <p:cNvPr id="110" name="AutoShape 86"/>
              <p:cNvSpPr/>
              <p:nvPr/>
            </p:nvSpPr>
            <p:spPr>
              <a:xfrm>
                <a:off x="971640" y="2981520"/>
                <a:ext cx="1530360" cy="1361160"/>
              </a:xfrm>
              <a:prstGeom prst="wedgeRoundRectCallout">
                <a:avLst>
                  <a:gd name="adj1" fmla="val 71787"/>
                  <a:gd name="adj2" fmla="val 75601"/>
                  <a:gd name="adj3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87"/>
              <p:cNvSpPr/>
              <p:nvPr/>
            </p:nvSpPr>
            <p:spPr>
              <a:xfrm>
                <a:off x="1081800" y="3292560"/>
                <a:ext cx="153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od save me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！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88"/>
            <p:cNvGrpSpPr/>
            <p:nvPr/>
          </p:nvGrpSpPr>
          <p:grpSpPr>
            <a:xfrm>
              <a:off x="6559920" y="5113080"/>
              <a:ext cx="2030400" cy="993960"/>
              <a:chOff x="6559920" y="5113080"/>
              <a:chExt cx="2030400" cy="993960"/>
            </a:xfrm>
          </p:grpSpPr>
          <p:sp>
            <p:nvSpPr>
              <p:cNvPr id="113" name="AutoShape 89"/>
              <p:cNvSpPr/>
              <p:nvPr/>
            </p:nvSpPr>
            <p:spPr>
              <a:xfrm>
                <a:off x="6559920" y="5113080"/>
                <a:ext cx="2030400" cy="993960"/>
              </a:xfrm>
              <a:prstGeom prst="wedgeRoundRectCallout">
                <a:avLst>
                  <a:gd name="adj1" fmla="val -82277"/>
                  <a:gd name="adj2" fmla="val -83000"/>
                  <a:gd name="adj3" fmla="val 16667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90"/>
              <p:cNvSpPr/>
              <p:nvPr/>
            </p:nvSpPr>
            <p:spPr>
              <a:xfrm>
                <a:off x="6635880" y="5232600"/>
                <a:ext cx="1816920" cy="7642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Times New Roman"/>
                  </a:rPr>
                  <a:t>无所谓，  我无所谓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3"/>
            <p:cNvGrpSpPr/>
            <p:nvPr/>
          </p:nvGrpSpPr>
          <p:grpSpPr>
            <a:xfrm>
              <a:off x="7395840" y="2060640"/>
              <a:ext cx="1557360" cy="1424160"/>
              <a:chOff x="7395840" y="2060640"/>
              <a:chExt cx="1557360" cy="1424160"/>
            </a:xfrm>
          </p:grpSpPr>
          <p:sp>
            <p:nvSpPr>
              <p:cNvPr id="116" name="AutoShape 94"/>
              <p:cNvSpPr/>
              <p:nvPr/>
            </p:nvSpPr>
            <p:spPr>
              <a:xfrm>
                <a:off x="7403040" y="2060640"/>
                <a:ext cx="1420920" cy="1424160"/>
              </a:xfrm>
              <a:prstGeom prst="wedgeRoundRectCallout">
                <a:avLst>
                  <a:gd name="adj1" fmla="val -68486"/>
                  <a:gd name="adj2" fmla="val 104810"/>
                  <a:gd name="adj3" fmla="val 1666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95"/>
              <p:cNvSpPr/>
              <p:nvPr/>
            </p:nvSpPr>
            <p:spPr>
              <a:xfrm>
                <a:off x="7395840" y="2163240"/>
                <a:ext cx="1557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Times New Roman"/>
                  </a:rPr>
                  <a:t>我得意的笑，又得意的笑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02"/>
            <p:cNvGrpSpPr/>
            <p:nvPr/>
          </p:nvGrpSpPr>
          <p:grpSpPr>
            <a:xfrm>
              <a:off x="1918080" y="5242320"/>
              <a:ext cx="1896120" cy="1134360"/>
              <a:chOff x="1918080" y="5242320"/>
              <a:chExt cx="1896120" cy="1134360"/>
            </a:xfrm>
          </p:grpSpPr>
          <p:sp>
            <p:nvSpPr>
              <p:cNvPr id="119" name="AutoShape 99"/>
              <p:cNvSpPr/>
              <p:nvPr/>
            </p:nvSpPr>
            <p:spPr>
              <a:xfrm>
                <a:off x="1918080" y="5242320"/>
                <a:ext cx="1896120" cy="1134360"/>
              </a:xfrm>
              <a:prstGeom prst="wedgeRoundRectCallout">
                <a:avLst>
                  <a:gd name="adj1" fmla="val 68504"/>
                  <a:gd name="adj2" fmla="val -96847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2f2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00"/>
              <p:cNvSpPr/>
              <p:nvPr/>
            </p:nvSpPr>
            <p:spPr>
              <a:xfrm>
                <a:off x="1918080" y="5415120"/>
                <a:ext cx="1896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Times New Roman"/>
                  </a:rPr>
                  <a:t>为什么受伤的总是我！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 Box 104"/>
          <p:cNvSpPr/>
          <p:nvPr/>
        </p:nvSpPr>
        <p:spPr>
          <a:xfrm>
            <a:off x="4437720" y="4941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68280" y="981000"/>
          <a:ext cx="8238960" cy="3944880"/>
        </p:xfrm>
        <a:graphic>
          <a:graphicData uri="http://schemas.openxmlformats.org/drawingml/2006/table">
            <a:tbl>
              <a:tblPr/>
              <a:tblGrid>
                <a:gridCol w="552600"/>
                <a:gridCol w="3639960"/>
                <a:gridCol w="4046400"/>
              </a:tblGrid>
              <a:tr h="6969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与稀盐酸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与稀硫酸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08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25"/>
          <p:cNvSpPr/>
          <p:nvPr/>
        </p:nvSpPr>
        <p:spPr>
          <a:xfrm>
            <a:off x="446040" y="5557680"/>
            <a:ext cx="70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结论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酸能与较活泼的金属反应产生氢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5508720" y="249552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900000" y="1990800"/>
            <a:ext cx="388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g +2 HCl  = Mg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900000" y="2998800"/>
            <a:ext cx="396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n +2 HCl  = Zn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4572000" y="3071880"/>
            <a:ext cx="42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n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= Z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4406760" y="1990800"/>
            <a:ext cx="456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g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Mg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4330080" y="4151160"/>
            <a:ext cx="443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= F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717480" y="4151160"/>
            <a:ext cx="413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e +2 HCl  = FeC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36600" y="81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硫酸厂有一辆运输过浓硫酸的铁罐车（常温下，浓硫酸使铁表面生成一层致密的氧化膜，阻止铁与浓硫酸进一步反应），某新上岗的工人违反操作规定，边吸烟边用水冲洗该铁罐车，结果发生了爆炸事故。请以该厂技术员的身份分析一下发生爆炸的原因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39:07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